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Lati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CBB5-F050-4CC3-BF87-3B24E07C5A0D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E74F-6851-43DF-8E3A-78B31BE182D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69A5-4BE5-4458-A271-C36ED6EFFF99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616-A163-46E1-AC2E-32681F05D47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330F-8FD2-441F-ADC2-98C2D3AE865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88C9-03AB-4EA8-85FF-F9BE0256EE98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1A3-A20B-453F-87B0-2BE82F30AA7C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B50C-4EEF-41AB-9070-93D2EB21F44F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5E1-504D-41C4-BB8B-9B38B0F0A8D6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1DE-C9CA-48AD-A2C3-ACD6B920CDDD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E75-E04A-4009-B9E8-F7FC8D3FB6B1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1715-904A-42A3-8EA0-8D35B1B0FFBA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6F3-80F6-490E-9687-3838D72F1D3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FC1-59CC-4827-8B60-2F8DF8338568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79B-57AD-4192-B6B6-43F4D54DD87F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E83-E775-456E-87B6-D3FBFB0A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EFB-8C94-4201-8BFD-58730F9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04E-1B06-437E-A0F0-8BADFE9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024-C39D-452F-87F0-9D2C9FBE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E03-1658-4E94-A190-BAF59C84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466-DD00-4DC6-9408-DDEC44C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491-2BEA-49D5-BCFC-B85FC9D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2E9-932D-470A-8963-13CC0673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03C-9A42-4BCD-8F3B-D7C0073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D76-5EAB-4774-A40C-6321734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F0C-CB40-4078-B6E1-8E2F4C3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60D-AECA-4080-B92D-CCD100EB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8CA8-2D42-4C5A-8E5F-7CA01F4FF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welve major deities of ancient 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Nuntius deōrum Rōmānōrum quī gerit ālas in caligīs et in petasō.  Deus quī prōtegit viatōrēs et mercātōrē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3656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Mercuri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75" name="Picture 7" descr="ElecHseEm6"/>
          <p:cNvPicPr/>
          <p:nvPr/>
        </p:nvPicPr>
        <p:blipFill>
          <a:blip r:embed="rId1"/>
          <a:stretch/>
        </p:blipFill>
        <p:spPr>
          <a:xfrm>
            <a:off x="4724280" y="1828800"/>
            <a:ext cx="22417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messis et cultūrae agrōrum; tenet frūmen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eres"/>
          <p:cNvPicPr/>
          <p:nvPr/>
        </p:nvPicPr>
        <p:blipFill>
          <a:blip r:embed="rId1"/>
          <a:stretch/>
        </p:blipFill>
        <p:spPr>
          <a:xfrm>
            <a:off x="2743200" y="2209680"/>
            <a:ext cx="3814920" cy="328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971800" y="5675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ē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quī facit arma prō virīs et fulgurēs prō I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11354_14a8079eb6"/>
          <p:cNvPicPr/>
          <p:nvPr/>
        </p:nvPicPr>
        <p:blipFill>
          <a:blip r:embed="rId1"/>
          <a:stretch/>
        </p:blipFill>
        <p:spPr>
          <a:xfrm>
            <a:off x="4952880" y="1600200"/>
            <a:ext cx="208764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990720" y="312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ulcā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sapientiae, et bellī, et contextūs.  Adulta ea nata est ex fronte patris Io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inerva"/>
          <p:cNvPicPr/>
          <p:nvPr/>
        </p:nvPicPr>
        <p:blipFill>
          <a:blip r:embed="rId1"/>
          <a:stretch/>
        </p:blipFill>
        <p:spPr>
          <a:xfrm>
            <a:off x="3124080" y="1828800"/>
            <a:ext cx="1667160" cy="407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486400" y="3771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v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1840" y="104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86" name="Picture 5" descr="ceres"/>
          <p:cNvPicPr/>
          <p:nvPr/>
        </p:nvPicPr>
        <p:blipFill>
          <a:blip r:embed="rId1"/>
          <a:stretch/>
        </p:blipFill>
        <p:spPr>
          <a:xfrm>
            <a:off x="3271680" y="2308320"/>
            <a:ext cx="2600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Deus s</a:t>
            </a: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ōlis, mūsicae, arcūs &amp; sagittārum, et medicīn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apollo"/>
          <p:cNvPicPr/>
          <p:nvPr/>
        </p:nvPicPr>
        <p:blipFill>
          <a:blip r:embed="rId1"/>
          <a:stretch/>
        </p:blipFill>
        <p:spPr>
          <a:xfrm>
            <a:off x="1828800" y="1469880"/>
            <a:ext cx="54100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590920" y="5790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Apoll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Lūnae et vēnātiōnis.  Graecē nōminātur Artemis.  Frāter est Apoll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diana"/>
          <p:cNvPicPr/>
          <p:nvPr/>
        </p:nvPicPr>
        <p:blipFill>
          <a:blip r:embed="rId1"/>
          <a:stretch/>
        </p:blipFill>
        <p:spPr>
          <a:xfrm>
            <a:off x="3124080" y="1676520"/>
            <a:ext cx="2681280" cy="3693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133720" y="579024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ān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x deōrum hominumque.  Facit fulguribus tempestātes.  Eius avis est aqu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upiter"/>
          <p:cNvPicPr/>
          <p:nvPr/>
        </p:nvPicPr>
        <p:blipFill>
          <a:blip r:embed="rId1"/>
          <a:stretch/>
        </p:blipFill>
        <p:spPr>
          <a:xfrm>
            <a:off x="3200400" y="1752480"/>
            <a:ext cx="2814480" cy="4222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562720" y="3904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ppiter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Dea amōris et pulchritūdinis.  Māter hērōis Aenē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romvenus"/>
          <p:cNvPicPr/>
          <p:nvPr/>
        </p:nvPicPr>
        <p:blipFill>
          <a:blip r:embed="rId1"/>
          <a:stretch/>
        </p:blipFill>
        <p:spPr>
          <a:xfrm>
            <a:off x="3773520" y="2057400"/>
            <a:ext cx="1596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76720" y="5485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maris. Frāter est Iuppiter.  Terra tremefactātur tridente su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neptune"/>
          <p:cNvPicPr/>
          <p:nvPr/>
        </p:nvPicPr>
        <p:blipFill>
          <a:blip r:embed="rId1"/>
          <a:stretch/>
        </p:blipFill>
        <p:spPr>
          <a:xfrm>
            <a:off x="1752480" y="1905120"/>
            <a:ext cx="301788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10080" y="335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Neptū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gīna deōrum et hominum.  Marītus eius est Iuppiter.  Pavō est eius a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uno"/>
          <p:cNvPicPr/>
          <p:nvPr/>
        </p:nvPicPr>
        <p:blipFill>
          <a:blip r:embed="rId1"/>
          <a:stretch/>
        </p:blipFill>
        <p:spPr>
          <a:xfrm>
            <a:off x="3505320" y="1523880"/>
            <a:ext cx="213336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14400" y="3771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ūn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bellī et pater Rōmulī et Remī.  Gerit arma ad Rōmam dēfendend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Mars-soldiers-CpyRt"/>
          <p:cNvPicPr/>
          <p:nvPr/>
        </p:nvPicPr>
        <p:blipFill>
          <a:blip r:embed="rId1"/>
          <a:stretch/>
        </p:blipFill>
        <p:spPr>
          <a:xfrm>
            <a:off x="1981080" y="1905120"/>
            <a:ext cx="3138480" cy="337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638680" y="3161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flammae sacrae quae in templō suō semper ardet ut Rōma omnibus temporibus tūta s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romvesta"/>
          <p:cNvPicPr/>
          <p:nvPr/>
        </p:nvPicPr>
        <p:blipFill>
          <a:blip r:embed="rId1"/>
          <a:stretch/>
        </p:blipFill>
        <p:spPr>
          <a:xfrm>
            <a:off x="3276720" y="1752480"/>
            <a:ext cx="1751040" cy="3581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867280" y="4151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est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02:39Z</dcterms:created>
  <dc:creator>William H. Snyder</dc:creator>
  <dc:description/>
  <dc:language>en-US</dc:language>
  <cp:lastModifiedBy>CFF</cp:lastModifiedBy>
  <dcterms:modified xsi:type="dcterms:W3CDTF">2011-01-13T13:10:41Z</dcterms:modified>
  <cp:revision>12</cp:revision>
  <dc:subject/>
  <dc:title>The twelve major deities of ancient Rome</dc:title>
</cp:coreProperties>
</file>